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52C-9898-4467-A564-9E318AFD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23D-1295-4D96-A941-C6A25DAB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A47-D9BE-4202-A402-537C66E7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CF1-D5F6-4B63-A91D-17C624C6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B3A-4890-4A97-B76F-466A568A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424-ED38-4EC8-9E1F-957D4615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FD0-42D8-4CA4-9669-DAC8A323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225-B903-4E98-BEE0-06D0D0B9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D93-E906-4439-8645-651AD474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97F-B9B7-4DF3-A1E2-3AC0EF04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996-E156-4340-B2C4-9CE17783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8C9-FD5C-407F-B74F-8BA31AD4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37F9-81A4-45D6-92FD-688900027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 i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rmal languages for representing information such that conclusions can be dr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s the sentences in th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 the "meaning" of senten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defin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sentence in a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the language of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a sentence; x2+y &gt; {} is not a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true iff the number x+2 is no less than the numbe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true in a world where x = 7, 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false in a world where x = 0, y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ail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one th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llows 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b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ails sentence α if and only if α is true in all worlds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the KB containing “the Giants won” and “the Reds won” entails “Either the Giants won or the Reds w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x+y = 4 entails  4 = x+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ilment is a relationship between sentences (i.e.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at is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ians typically think in terms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are formally structured worlds with respect to which truth can be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a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s a model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entence α if α is tru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et of all models of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KB ╞ α if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K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ants won and Re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n α = Giants w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5812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 in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after detecting nothing in [1,1], moving right, breeze in [2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possible model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uming only p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Boolean choic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 possibl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-based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umpus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in general - models and entai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al (Boolean)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, validity, satisf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 rules and theorem pr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"[1,2] is safe"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╞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ved b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"[2,2] is safe"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╞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05520" y="563832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= sentence α can be deriv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ced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und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ound if whene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, it is also true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let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mplete if whene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, it is also true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: we will define a logic (first-order logic) which is expressive enough to say almost anything of interest, and for which there exists a sound and complete inference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the procedure will answer any question whose answer follows from what is known by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al logic: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the simplest logic –  illustrates basic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ition symbol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c ar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 is a sentenc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j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j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icondi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al logic: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odel specifies true/false for each proposition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se symbols, 8 possible models, can be enumera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for evaluating truth with respect to a mod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s fals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als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fals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recursive process evaluates an arbitrary sentence, e.g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s for 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7502" t="30211" r="7811" b="50002"/>
          <a:stretch/>
        </p:blipFill>
        <p:spPr>
          <a:xfrm>
            <a:off x="609480" y="1371600"/>
            <a:ext cx="769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rue if there is a pit in [i, j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rue if there is a breeze in [i, j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Pits cause breezes in adjacent squar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7502" t="30211" r="7811" b="32293"/>
          <a:stretch/>
        </p:blipFill>
        <p:spPr>
          <a:xfrm>
            <a:off x="762120" y="1371600"/>
            <a:ext cx="75438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base = set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nt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lar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ach to building an agent (or other syste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hat it need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it c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self what to do - answers should follow from the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s can be viewed at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nowled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what they know, regardless of how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t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ement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data structures in KB and algorithms that manipulat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65530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h-first enumeration of all models is sound and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mbols, time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ace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31253" t="35419" r="783" b="19791"/>
          <a:stretch/>
        </p:blipFill>
        <p:spPr>
          <a:xfrm>
            <a:off x="1143000" y="198108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entences ar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ally equival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iff true in same models: 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ß iff α╞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3597" t="39583" r="3127" b="15627"/>
          <a:stretch/>
        </p:blipFill>
        <p:spPr>
          <a:xfrm>
            <a:off x="1143000" y="2514600"/>
            <a:ext cx="71629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ity and satisf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l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is connected to inference via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duction 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╞ α if and only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α) is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tis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satis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iability is connected to inference via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╞ α if and only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α) is unsatisf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methods divide into (roughly) two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lication of inferenc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itimate (sound) generation of new sentences from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 sequence of inference rule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inference rules as operators in a standard search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require transformation of sentences into 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th table enumeration (always exponential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backtracking, e.g., Davis--Putnam-Logemann-Loveland (D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search in model space (sound but incompl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min-conflicts-like hill-climb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junctive Normal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N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j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t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erence rule (for CN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mplementary liter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 is sound and comple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posi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1889280" cy="1895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35812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ness of resolution inference ru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6576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to C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placing 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 with (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β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limin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placing 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o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wards using de Morgan's rules and double-ne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pply distributivity law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flat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contradiction, i.e., sh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5782" t="28124" r="5467" b="32293"/>
          <a:stretch/>
        </p:blipFill>
        <p:spPr>
          <a:xfrm>
            <a:off x="609480" y="2286000"/>
            <a:ext cx="77724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10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nd 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rn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stri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r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 claus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ition symbol; 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junction of symbol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us Pon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Horn Form): complete for Horn K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ward ch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ckward ch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lgorithms are very natural and run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8862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imple knowledge-based a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nt must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states, a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new per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nternal representations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e hidden properties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e appropriat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31253" t="30211" r="0" b="36462"/>
          <a:stretch/>
        </p:blipFill>
        <p:spPr>
          <a:xfrm>
            <a:off x="685800" y="1447920"/>
            <a:ext cx="76201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fire any rule whose premises are satisfied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its conclusion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ntil query i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51563" t="32293" r="4688" b="30211"/>
          <a:stretch/>
        </p:blipFill>
        <p:spPr>
          <a:xfrm>
            <a:off x="2057400" y="2895480"/>
            <a:ext cx="5029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chaining is sound and complete for Horn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1253" t="30211" r="783" b="17709"/>
          <a:stretch/>
        </p:blipFill>
        <p:spPr>
          <a:xfrm>
            <a:off x="990720" y="15238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PEAS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formanc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 +1000, death -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per step, -10 for using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s adjacent to wumpus are sm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s adjacent to pit are bree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tter iff gold is in the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oting kills wumpus if you are fac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oting uses up the only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bbing picks up gold if in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ing drops the gold in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ench, Breeze, Glitter, Bump, S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ft turn, Right turn, Forward, Grab, Release, Sh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771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complet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 derives every atomic sentence that is entail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reache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xed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no new atomic sentences are de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inal state as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signing true/false to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lause in the origi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ode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lu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work backwards from the qu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B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known already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 by BC all premises of some rule conclu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oops: check if new subgoal is already on the goa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repeated work: check if new sub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lready been proved true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lready f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Full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bser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– onl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Determin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– outcomes exactly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Epis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– sequential at the level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Yes – Wumpus and Pits do not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Single-agen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– Wumpus is essentially a natural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vs. 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-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utomatic, unconscious process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object recognition, routin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do lots of work that is irrelevant to the go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oal-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ppropriate for problem-solv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here are my keys? How do I get into a PhD pro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of BC can b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ch l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linear in size of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t propositional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families of efficient algorithms for propositional in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acktracking search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 algorithm (Davis, Putnam, Logemann, Love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local search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P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an input propositional logic sentence (in CNF) is satisf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over truth table enum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lause is true if any literal is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ntence is false if any clause is fal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symbol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e symbol: always appears with the same "sign" in all clau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In the three clauses (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,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, (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), A and B are pure, C is imp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a pure symbol literal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claus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clause: only one literal in th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literal in a unit clause must be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P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7343" t="22917" r="3127" b="17709"/>
          <a:stretch/>
        </p:blipFill>
        <p:spPr>
          <a:xfrm>
            <a:off x="762120" y="1371600"/>
            <a:ext cx="76197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, local search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function: The min-conflict heuristic of minimizing the number of unsatisfied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between greediness and random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27343" t="22917" r="3127" b="31250"/>
          <a:stretch/>
        </p:blipFill>
        <p:spPr>
          <a:xfrm>
            <a:off x="762120" y="1523880"/>
            <a:ext cx="75438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random 3-CNF sentences.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umber of cl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umber of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s seem to cluster ne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.3 (critical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294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runtime for 100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atisf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 3-CNF sentenc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486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-based agents in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umpus-world agent using propositional log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-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-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distinct proposition symbols, 155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27343" t="14584" r="4688" b="20835"/>
          <a:stretch/>
        </p:blipFill>
        <p:spPr>
          <a:xfrm>
            <a:off x="457200" y="304920"/>
            <a:ext cx="82296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 contains "physics" sentences for every single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very location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ingRigh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oliferation of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veness limitation of propositional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7320" y="3276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3276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gents apply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nowledge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rive new information and mak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concepts of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mal structure of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u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entences wrt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ail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cessary truth of one sentence give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ing sentences from other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und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ations produce only entailed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lete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ations can produce all entailed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umpus world requires the ability to represent partial and negated information, reason by cas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 is complete for propositional log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, backward chaining are linear-time, complete for Horn cl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itional logic lacks expressiv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7:08:22Z</dcterms:created>
  <dc:creator>Min-Yen Kan</dc:creator>
  <dc:description/>
  <dc:language>en-US</dc:language>
  <cp:lastModifiedBy>Min-Yen Kan</cp:lastModifiedBy>
  <dcterms:modified xsi:type="dcterms:W3CDTF">2003-12-18T04:12:02Z</dcterms:modified>
  <cp:revision>6</cp:revision>
  <dc:subject/>
  <dc:title>Logical Agents</dc:title>
</cp:coreProperties>
</file>