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D78-54A3-4350-B793-59A7B83A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B66-622F-4B93-A2EE-43B093EA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027-9473-40CF-99D4-8D2775A9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807-D13D-49A1-BCE8-160E7A6C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927E-0735-4BB3-A105-69ABAEC9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6524-EC42-44BC-BB7D-9E820D71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93BE-E2ED-42CA-B3C5-8C9EBD89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DE31-5D7A-4AA1-BAC4-69459DEC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47C5-E3F0-41B9-8CFE-935241E9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E90A-CDE8-419C-B1CA-73B8E87F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F6C8-1C0F-41AA-9713-3F4108FB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3ED-60E8-4EDC-A856-E9D1D0A3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3712-B2CD-4A71-B8D3-15FA7107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2139-5473-4B78-9B08-570E8A91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7EAF-D8A9-456A-A938-AFB18A63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020F-E842-4C8F-9548-74DD973D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B8DD-6FC3-47D6-BA53-9EECB01D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D9E-59CB-4474-B4B1-1578BCA6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BE2-9D35-4AA1-9470-E721E3F1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E79-B318-45FB-96C3-99A9CC63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4A2-77F7-47A4-966A-3ABE28E7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D53-8FD6-4D57-A3EF-E77EA77A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325-6C59-4349-A78B-607A2F39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7E3-1735-45DE-8040-1CC0D065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335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558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558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827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255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160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4776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54AC-D800-4039-B4C7-C99F793DD1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905120"/>
            <a:ext cx="9009000" cy="1052280"/>
            <a:chOff x="0" y="19051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012760"/>
              <a:ext cx="711360" cy="474480"/>
              <a:chOff x="290520" y="20127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012760"/>
                <a:ext cx="43740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012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435040"/>
              <a:ext cx="737640" cy="474480"/>
              <a:chOff x="414360" y="24350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435040"/>
                <a:ext cx="421560" cy="47448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435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361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905120"/>
              <a:ext cx="31680" cy="1052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726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F2D4-F130-48C3-977C-A5C268BFDE7F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olving problems by search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EEC3-F068-4331-9179-ACCF38A6BD2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ensorles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,2,3,4,5,6,7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es to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,4,6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Suck,Left,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Conting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deterministic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u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ty a clean carp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ally observable: location, dirt at current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pt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[L, Clean]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.e., start in #5 or #7</a:t>
            </a:r>
            <a:br>
              <a:rPr sz="20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irt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124-93E3-4598-81A4-59314E83F3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Single-state problem formula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defined by four item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itial stat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"at Arad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c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uccessor fun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(x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set of action–state pai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(Arad)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&lt;Arad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Zerind, Zerind&gt;, …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goal 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an b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xplic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"at Bucharest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mplic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mate(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h c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dditiv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sum of distances, number of actions executed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(x,a,y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</a:t>
            </a:r>
            <a:r>
              <a:rPr b="0" lang="en-US" sz="1800" spc="-1" strike="noStrike">
                <a:solidFill>
                  <a:srgbClr val="4b4eb5"/>
                </a:solidFill>
                <a:latin typeface="Tahoma"/>
              </a:rPr>
              <a:t>step co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assumed to b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≥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equence of actions leading from the initial state to a goal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F53-2EF9-4D1C-B0FE-4769CE66B2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electing a state spac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 is absurdly comple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space must b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bstract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problem solv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tract) state = set of real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tract) action = complex combination of real 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"Ara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Zerind" represents a complex set of possible routes, detours, rest stops, et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guaranteed realizability, 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al state "in Arad“ must get to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al state "in Zerind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tract) solution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of real paths that are solutions in the real wor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abstract action should be "easier" than the original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B53-C70E-4385-A830-F8CAA72DAD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Vacuum world state space grap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056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712-AA94-4DC2-9A4C-9BEAFDF8B8F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Vacuum world state space grap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er dirt and robot lo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irt at all lo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per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056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0FB-11F2-4B9F-A48B-EF83EADD624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The 8-puzz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257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561-F391-4364-801E-7D676EB838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The 8-puzz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s of ti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blank left, right, up, dow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goal state (gi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per 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ote: optimal solu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Puzzle family is NP-har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257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7F6-E0EF-409A-A57D-EEE7222B6B5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robotic assembl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eal-valued coordinates of robot joint angles parts of the object to be assemb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ntinuous motions of robot j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mplete 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ime to exec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80068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D4F7-D410-414A-A4FD-79A7874361A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algorithm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line, simulated exploration of state space by generating successors of already-explored states (a.k.a.~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a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14844" t="37501" r="3127" b="28124"/>
          <a:stretch/>
        </p:blipFill>
        <p:spPr>
          <a:xfrm>
            <a:off x="609480" y="3429000"/>
            <a:ext cx="80010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623-96A6-4B7E-B127-C79CEBE6952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705640" cy="160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3C8-0C13-4923-93CF-FD508040D92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-solving ag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for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search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358-45C3-4AA1-89BA-F644CE79F7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0200" y="1671480"/>
            <a:ext cx="6986520" cy="17240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B0E-E41C-4600-935D-A5E4176F38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30200" y="1671480"/>
            <a:ext cx="6986520" cy="17240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19F-B004-448B-A14B-8E9004F202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Implementation: general tree search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14844" t="18753" r="3127" b="9376"/>
          <a:stretch/>
        </p:blipFill>
        <p:spPr>
          <a:xfrm>
            <a:off x="990720" y="1600200"/>
            <a:ext cx="731520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D52D-CE6A-46F5-86B8-E62A43F8402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Implementation: states vs. nodes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(representation of) a physical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data structure constituting part of a search tree include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arent 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ath co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creates new nodes, filling in the various fields and us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ccessorF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problem to create the corresponding st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4981680" cy="21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62C-5B59-445A-B378-AEB1769E40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earch strategi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arch strategy is defined by picking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rder of node expa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tegies are evaluated along the following dim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completen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oes it always find a solution if one exis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time complex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number of nodes gener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space complex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aximum number of nodes in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optima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oes it always find a least-cost solu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and space complexity are measured in terms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ximum branching factor of the search t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th of the least-cost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aximum depth of the state space (may b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140-CEBB-4B12-BDE0-49AA5C54AE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Uninformed search strategi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ninform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arch strategies use only the information available in the problem 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dth-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form-co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h-limited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deepening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09C-2EB2-46F4-BFEA-59DF6D307B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267440" cy="28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A049-1831-485C-BD90-D817F6F70AE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343400" cy="2800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27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C57-85C3-43A8-BBE3-CF122B3AB2E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343400" cy="2855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34F-6CCE-41A4-A916-39DDBC5161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4648320" cy="2789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555-7916-4EF6-9E15-56498FD5120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-solving agen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4844" t="17709" r="3127" b="22917"/>
          <a:stretch/>
        </p:blipFill>
        <p:spPr>
          <a:xfrm>
            <a:off x="685800" y="167652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2DC-ACB9-434F-A3EF-3877AB19CF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perties of breadth-first searc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 (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in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+b+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… +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= O(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+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keeps every node in memo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es (if cost = 1 per ste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bigger problem (more than t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578-E2CD-410F-8FB6-63BDAB5B80B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Uniform-co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least-cost unexpand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queue ordered by path c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breadth-first if step costs all eq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es, if step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≥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 of nodes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st of optimal solution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ceiling(C*/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ε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cost of the optimal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 of nodes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of optimal solution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ceiling(C*/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ε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es – nodes expanded in increasing or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6DD-50B8-4439-BA8A-F276CAE8EBA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114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DE5-06EF-4F07-8BB0-61B932AF11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A8E-034B-4035-8C9B-C08CE91F53B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2971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04F-0BAC-45C6-8A7C-A070A058302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29131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A41-645C-4D64-99C0-556C827B3A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11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37D-9F86-4998-9A97-8AE1509F60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6C4-3844-4A23-AE06-A03C467E681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2BB-F673-48A2-AD92-1AAA7FDD2C7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92F1-D158-450F-8E0F-464DCCE3710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Romania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holiday in Romania; currently in Ar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ight leaves tomorrow from Bucha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Formulate go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in Bucha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Formulate 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various c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rive between c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Find solu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cities, e.g., Arad, Sibiu, Fagaras, Bucha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016-0714-4B36-A021-9790325386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C04-FB5B-49A8-A1E1-84C98700AA9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B5C-F67F-4DFF-B00B-F356D40DD82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4A4-23C6-4085-9068-63627C2F5CB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917-B32A-4659-9CB8-BDD31A8CAA9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perties of depth-first searc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: fails in infinite-depth spaces, spaces with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o avoid repeated states along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te in finite sp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erribl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much larger th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solutions are dense, may be much faster than breadth-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m)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, linea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A97-BBC4-4BB6-909C-09C3DD12618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limited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depth-first search with depth lim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, nodes at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no succes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Recursive imple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58203" t="36462" r="7422" b="20835"/>
          <a:stretch/>
        </p:blipFill>
        <p:spPr>
          <a:xfrm>
            <a:off x="914400" y="3124080"/>
            <a:ext cx="670572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F51-6C4E-466E-9C95-D248CAD7F12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14844" t="18753" r="3127" b="51046"/>
          <a:stretch/>
        </p:blipFill>
        <p:spPr>
          <a:xfrm>
            <a:off x="762120" y="1600200"/>
            <a:ext cx="8001000" cy="220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31E0-F5F3-4069-8FFC-CACABAB7C6C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0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37E-1C48-4C65-8DCD-97DA962C382A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1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F18-0544-4769-898D-CADB3C9D2A1A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2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2120" y="1652760"/>
            <a:ext cx="7619760" cy="35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5158-A6A8-4F16-9416-D053FA99C918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Romania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50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58D-B3FE-4018-B6B4-17D92683DD0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3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BD8-9D96-49A9-BF01-FC6C619BCB17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generated in a depth-limited search to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branching fact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DL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=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…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-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generated in an iterative deepening search to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branching fact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d+1)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d b^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(d-1)b^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… + 3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1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= 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 =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D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1 + 10 + 100 + 1,000 + 10,000 + 100,000 = 111,1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 + 50 + 400 + 3,000 + 20,000 + 100,000 = 123,45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 = (123,456 - 111,111)/111,111 = 11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F5E-729F-4638-94CC-E8937608FB0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perties of 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d+1)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d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(d-1)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… +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= 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(b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es, if step cost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200-628E-4334-92BC-1208EC5871C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ummary of algorithm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14065" t="22917" r="17970" b="51046"/>
          <a:stretch/>
        </p:blipFill>
        <p:spPr>
          <a:xfrm>
            <a:off x="1143000" y="1676520"/>
            <a:ext cx="662940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E3B-80CD-4D0E-8369-136B51B969C6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peated stat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ilure to detect repeated states can turn a linear problem into an exponential on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8229600" cy="301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7D5-9BD5-4409-A656-68EEB2FFCFF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ph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14065" t="16666" r="3127" b="35419"/>
          <a:stretch/>
        </p:blipFill>
        <p:spPr>
          <a:xfrm>
            <a:off x="609480" y="1676520"/>
            <a:ext cx="80773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556-2524-49D4-B59E-F1FFD4CDAD49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formulation usually requires abstracting away real-world details to define a state space that can feasibly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ety of uninformed search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ve deepening search uses only linear space and not much more time than other uninformed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639-F3B9-4B7A-9246-789E294BF0D4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 typ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Deterministic, fully observ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ngle-stat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 knows exactly which state it will be in; solution is a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Non-observable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nsorless problem (conformant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 may have no idea where it is; solution is a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Nondeterministic and/or partially observ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tingency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pts provid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 about current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terlea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 search, exec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Unknown state sp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loration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241-950A-4430-8A37-66C6DD7B2C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2433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ingle-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rt in #5.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70440" y="1757520"/>
            <a:ext cx="3925800" cy="32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66B-2D06-4592-B4A8-5885071E65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ingle-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rt in #5.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 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ensorles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,2,3,4,5,6,7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es to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,4,6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170-5EC4-49FE-94C2-17469CEA14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ensorles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,2,3,4,5,6,7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es to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,4,6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Suck,Left,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Conting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deterministic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u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ty a clean carp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ally observable: location, dirt at current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pt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[L, Clean]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.e., start in #5 or #7</a:t>
            </a:r>
            <a:br>
              <a:rPr sz="20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E9D-7CF4-4E2B-9105-F1BCFB43F9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2:58:58Z</dcterms:created>
  <dc:creator>Min-Yen Kan</dc:creator>
  <dc:description/>
  <dc:language>en-US</dc:language>
  <cp:lastModifiedBy>Min-Yen Kan</cp:lastModifiedBy>
  <dcterms:modified xsi:type="dcterms:W3CDTF">2003-12-22T03:06:45Z</dcterms:modified>
  <cp:revision>5</cp:revision>
  <dc:subject/>
  <dc:title>Solving problems by searching</dc:title>
</cp:coreProperties>
</file>