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47D-886E-45B1-A404-61680309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2D5-5B95-4143-9E2D-A548324F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62D-8838-4373-B2FE-DA9318BD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BDB-0789-4E09-A531-48F2CD23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F36-A3AE-40C3-965D-F59FC473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649-3A4B-40E5-B88F-1D10B34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081-16E7-4085-97A5-65E96F9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543-DDA1-4DE5-B690-C807E5B2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F22-5CBF-4C72-9CAD-8D5095E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96D-8BD2-4C78-8949-B41F672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41D-F36B-4022-A8AD-A2E443F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403-40BF-4701-9768-84D6DEA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6F7-857B-47B6-952F-F864EEBA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conditional independence is hard in noncausal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al models and conditional independence seem hardwired for human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less compact: 1 + 2 + 4 + 2 + 4 = 13 number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743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networks provide a natural representation for (causally induced) conditiona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+ CPTs = compact representation of joi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easy for domain experts to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, graphical notation for conditional independence assertions and hence for compact specification of full 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nodes, one per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ed, acyclic graph (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rectly influenc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tional distribution for each node given its par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arents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implest case, conditional distribution represented a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ditional probability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PT) giving the distribution o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combination of par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of network encodes conditional independence asser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nditionally independent 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419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'm at work, neighbor John calls to say my alarm is ringing, but neighbor Mary doesn't call. Sometimes it's set off by minor earthquakes. Is there a burg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g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hn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y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opology reflects "causal" knowl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rglar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thquake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Mary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John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c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PT for Bool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olean parents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ws for the combinations of par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requires one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number for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ju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variable has no more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ents, the complete network requir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n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rows linearl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s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2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ull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urglary net, 1 + 1 + 4 + 2 + 2 = 10 numbers (vs.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= 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209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ll joint distribution is defined as the product of the local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 |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209600" cy="120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98680" y="2209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oose an ordering of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ents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Parents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, ...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oice of parents guarant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constr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in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7960" y="373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7960" y="411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6:38:09Z</dcterms:created>
  <dc:creator>Min-Yen Kan</dc:creator>
  <dc:description/>
  <dc:language>en-US</dc:language>
  <cp:lastModifiedBy>Min-Yen Kan</cp:lastModifiedBy>
  <dcterms:modified xsi:type="dcterms:W3CDTF">2003-12-18T03:06:00Z</dcterms:modified>
  <cp:revision>4</cp:revision>
  <dc:subject/>
  <dc:title>Bayesian networks </dc:title>
</cp:coreProperties>
</file>