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193-4D81-40B6-BB93-ECA391C7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95A-A4AB-4477-BFBE-4328C914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035-1C1E-4948-A385-B2D27DF6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508-0703-41F7-83DE-DC4AAD7F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792-9717-4A79-BF2B-3E1F795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22A-5013-41FC-B9FE-9969716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D7B-0D81-412B-8C92-8DCDDB38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3FB-EBD1-4DD8-B275-E0ECCFE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B40-68CF-4B6E-A0F9-A16F9D4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08E-F2D3-429D-8890-9EB0C3E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E7C-1D61-40BC-9854-CA07A39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809-89EF-4FE8-9D8D-7A30107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BDF-453C-40D4-9254-E2784579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d search algorith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1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memory-bounded heurist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uris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to reach the goal stat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ssible heurist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overest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st to reach the goal, i.e., it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overestimates the actual road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dmissible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EE-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 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g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ubopt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)   = g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&gt; f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f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^*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h is admi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(n) +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&gt; 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ever selec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uristic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very success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d by any a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(n,a,n') + h(n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'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) + c(n,a,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-decreasing along any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-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62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ands nodes in order of increa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ly adds 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ours" of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ll nod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=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63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$^*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 (unless there are infinitely many nodes with 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on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+1+2+2+2+3+3+2 =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th admi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mi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etter fo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earch costs (average number of nodes expand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3,644,035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27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3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2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too many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9,135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,641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with fewer restrictions on the a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axe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an optimal solution to a relaxed problem is an admissible heuristic for the origi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of the 8-puzzle are relaxed so that a tile can mo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are relaxed so that a tile can move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 adjacent squar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rather than jus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ly genera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all the successors of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one is a goal state, stop; else sele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successors from the complete list and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ccessor state is generated by combining two pa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ly generated stat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 is represented as a string over a finite alphabet (often a string of 0s and 1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ness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Higher values for bett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next generation of states by selection, crossover, and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Tree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input{\file{algorithms}{tree-search-short-algorithm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strategy is defined by pick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der of node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unction: number of non-attacking pairs of queens (min = 0, max = 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2 =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(24+23+20+11) =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/(24+23+20+11) = 29%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71440" y="2433600"/>
            <a:ext cx="6801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ia with step costs in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4:31:51Z</dcterms:created>
  <dc:creator>Min-Yen Kan</dc:creator>
  <dc:description/>
  <dc:language>en-US</dc:language>
  <cp:lastModifiedBy>Min-Yen Kan</cp:lastModifiedBy>
  <dcterms:modified xsi:type="dcterms:W3CDTF">2003-12-17T05:12:36Z</dcterms:modified>
  <cp:revision>5</cp:revision>
  <dc:subject/>
  <dc:title>Informed search algorithms </dc:title>
</cp:coreProperties>
</file>