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FA5C-E3C1-498D-AD3D-D4C27263F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64F1-C4FD-4C85-BD32-00A3EF3B1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7383-6D37-45FE-A049-14A05B663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DCB8-63E4-44CF-9311-27A192598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8FEC-870A-46F7-B4B8-7D7CE71B0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355B-20F2-4646-9977-F0FC76515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4C99-B92B-4566-848F-72645AD3B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D511-D68E-4CAE-9234-C2BECB50C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15B9-A765-45A3-84EC-F6E8DE18E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606A-A795-4B1A-BA07-0C3B76E0C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89D8-4A08-4AEB-B56E-865C9BB10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921A-B6BB-4503-89AB-D063A54BB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2E250-F21C-4D35-B040-ED38A7DEF4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ersarial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tion 1 – 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α-β prun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37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α-β prun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α-β prun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22960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erties of α-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uning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oes 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ffect final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move ordering improves effectiveness of pru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"perfect ordering," time complexity = O(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m/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oub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th of 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imple example of the value of reasoning about which computations are relevant (a form of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etareaso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is it called α-β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α is the value of the best (i.e., highest-value) choice found so far at any choice point along the path f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worse than α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ll avoid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une that bra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β similarly f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687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α-β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6405" t="25004" r="15626" b="15627"/>
          <a:stretch/>
        </p:blipFill>
        <p:spPr>
          <a:xfrm>
            <a:off x="685800" y="1295280"/>
            <a:ext cx="7620120" cy="49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α-β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rcRect l="15626" t="25004" r="15626" b="33337"/>
          <a:stretch/>
        </p:blipFill>
        <p:spPr>
          <a:xfrm>
            <a:off x="685800" y="1523880"/>
            <a:ext cx="7772400" cy="35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 lim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 we have 100 secs, explore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odes/sec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333399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des per m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approac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utoff tes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depth limit (perhaps ad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quiescence sear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valuation fun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estimated desirability of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aluation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chess, typically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ine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eighted sum of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val(s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) + 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) + … + 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9 wi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) = (number of white queens) –  (number of black queens)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tting off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inimaxCuto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identical 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inimaxVal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ce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rminal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replaced b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utoff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t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replaced b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it work in practi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b=35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=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-ply lookahead is a hopeless chess play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-pl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≈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 no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-pl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ypical PC, human ma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-pl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ep Blue, Kaspar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mal dec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α-β pru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erfect, real-time dec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erministic games in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ers: Chinook ended 40-year-reign of human world champion Marion Tinsley in 1994. Used a precomputed endgame database defining perfect play for all positions involving 8 or fewer pieces on the board, a total of 444 billion posi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ss: Deep Blue defeated human world champion Garry Kasparov in a six-game match in 1997. Deep Blue searches 200 million positions per second, uses very sophisticated evaluation, and undisclosed methods for extending some lines of search up to 40 p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llo: human champions refuse to compete against computers, who are too go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: human champions refuse to compete against computers, who are too bad. In go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 &gt; 3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o most programs use pattern knowledge bases to suggest plausible mo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mes are fun to work 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illustrate several important points about 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ection is unattainabl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ust approxi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idea to think about what to think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mes vs. search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Unpredictable" oppon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pecifying a move for every possible opponent rep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limit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nlikely to find goal, must approxi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me tree (2-player, deterministic, turn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6048360" cy="43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im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ect play for deterministic g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: choose move to position with highes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inimax val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best achievable payoff against best 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2-ply ga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90720" y="3657600"/>
            <a:ext cx="6705360" cy="28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imax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15626" t="25004" r="15626" b="11458"/>
          <a:stretch/>
        </p:blipFill>
        <p:spPr>
          <a:xfrm>
            <a:off x="914400" y="1371600"/>
            <a:ext cx="7162920" cy="49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erties of minim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</a:rPr>
              <a:t>Complete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es (if tree is fini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</a:rPr>
              <a:t>Optimal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es (against an optimal oppon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</a:rPr>
              <a:t>Time complexity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(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</a:rPr>
              <a:t>Space complexity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(bm) (depth-first explor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chess, b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35, 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 for "reasonable" gam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act solution completely infea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α-β prun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37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α-β prun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37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7T06:37:42Z</dcterms:created>
  <dc:creator>Min-Yen Kan</dc:creator>
  <dc:description/>
  <dc:language>en-US</dc:language>
  <cp:lastModifiedBy>Min-Yen Kan</cp:lastModifiedBy>
  <dcterms:modified xsi:type="dcterms:W3CDTF">2003-12-17T06:56:02Z</dcterms:modified>
  <cp:revision>3</cp:revision>
  <dc:subject/>
  <dc:title>Adversarial Search</dc:title>
</cp:coreProperties>
</file>