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B62-7864-4B69-BA31-2127F63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AE7-6901-4EF9-8EA2-5138FA01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3C5-1AB2-43D1-A427-C47C8708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DD5-8CA0-45EE-A5AD-3B3D88E1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CC0-3398-4E74-8036-136E930C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5A0-21F2-4159-995E-9FAD4AAE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C79-F3F8-4650-BA5C-AFF7E91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138-2E5D-4BBD-A07D-8C9D0706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355-B2BC-40D4-8ACA-003036FE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0E4-04E5-4835-8069-BF62316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534-50B4-4D6D-8E0C-5D3561C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778-07DD-4202-9A07-F65D941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304-2010-43C9-85ED-1BE259AD4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each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mart(Richa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“Everyone is at NUS and everyone is sm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some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Rich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there is anyone who is not at N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qu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erson who loves everyone in the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n the world is loved by at least one pers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tifier d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ach can be expressed using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IceCre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Ice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Broccoli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Brocco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under a given interpretation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sam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b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= 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= 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f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arent(f,y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ship dom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s are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's mother is one's fe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ther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emale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ent(m,c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” i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ibling(y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do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et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 = {}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{x|s}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(s = {y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=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FOL K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wumpus-world agent is using an FOL KB and perceives a smell and a breeze (but no glitter)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Percept([Smell,Breeze,None]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estAction(a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oes the KB entail some best action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/Sh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←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it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inding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nt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ubstituti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the result of plugg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x,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{x/Hillary,y/Bill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Hillary,Bi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B,S) returns some/al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 for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,s,b Percept([s,b,Glitter]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itter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Glitter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Action(Grab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F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 of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mpus world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ducing hidden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,a,b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ja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x,y],[a,b]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,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[x+1,y], [x-1,y],[x,y+1],[x,y-1]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qu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gent,s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e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y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are breezy near a p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---infer cause from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reezy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Exi{r}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t(r)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---infer effect from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Pit(r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eezy(s)$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 of predicates, functions, and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about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a description of the specific problem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queries to the inference procedure and ge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bit full 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ircuit actually add properly? (circuit ver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wires and gates; Types of gates (AND, OR, XOR,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levant: size, shape, color, cost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of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ignal(t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X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N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the specific problem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e queries to the inferenc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ossible sets of values of all the terminals for the adder circu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C_1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3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mitted assertions like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nd relations are semantic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constants, functions, predicates, equality,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xpressive power: sufficient to define wumpus 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 and cons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allows partial/disjunctive/nega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data structures and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osi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from 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in 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text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, where meaning depends on con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has very limited expressi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not say "pits cause breezes in adjacent squar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by writing one sentence for each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as propositional logic assumes the world contain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 (like natural language) assumes the world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ople, houses, numbers, colors, baseball games, war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d, round, prime, brother of, bigger than, part of, comes betwee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ather of, best friend, one more than, plu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of FOL: Bas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John, 2, NUS,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, &gt;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rt, LeftLegOf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y, a, b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er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entence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KingJohn,RichardTheLionheart) &gt; (Length(LeftLegOf(Richard)), Length(LeftLegOf(KingJohn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entences are made from atomic sentences using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bling(KingJohn,Richar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ibling(Richard,KingJoh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(1,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in 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 are true with respect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tains objects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relations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specifies refer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ction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omic sent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(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for FOL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Min-Yen Kan</cp:lastModifiedBy>
  <dcterms:modified xsi:type="dcterms:W3CDTF">2004-01-02T09:27:55Z</dcterms:modified>
  <cp:revision>4</cp:revision>
  <dc:subject/>
  <dc:title>First-Order Logic</dc:title>
</cp:coreProperties>
</file>