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B08-E66E-4A7E-A044-EAEE2700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DEB-44F1-4724-8802-5D7812F3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EC5-DA41-4C3E-AC7C-B7A387A6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F42C-7BB1-4265-A369-F4FDC4AE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B3F8-3867-46A0-8CF8-8FCF06FD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09DC-E75F-44B1-BCD8-D144F731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2C04-E40C-42B2-918B-78369464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10AF-8FC1-4CD7-A806-BF18C05E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E2AF-D832-4DF9-BB80-3C4F0E7F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1ED1-4AEE-402B-8D77-224CFE5B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AC07-9584-41FD-8B80-8820B55F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FF6-81E6-4F03-A427-9964051C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FF81-2EC9-4CBB-A7D8-6E2A51E6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25A4-4AEA-4B88-8E51-9D7960AA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3964-3A55-45EC-81A4-69AD4162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B0F7-9E93-40AC-9398-284D9EF3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F1EA-5E50-48B3-AA0D-BFD74DB9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067-39C1-4C1C-9DD5-81812235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B8F-EA29-4969-A56D-EC0830F3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429-B37D-420C-8F99-059E9DCD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38A-D971-426C-B1B1-72BD9D6E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8F4-D8ED-487F-9A59-94CCFE41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7EA-DF13-4A68-9F81-89C78E6F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C5E-CD69-4540-8FF8-2AA00F38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b44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335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44c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55800"/>
            <a:ext cx="422280" cy="474480"/>
          </a:xfrm>
          <a:prstGeom prst="rect">
            <a:avLst/>
          </a:prstGeom>
          <a:solidFill>
            <a:srgbClr val="fdf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558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df70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82720"/>
            <a:ext cx="560160" cy="422280"/>
          </a:xfrm>
          <a:prstGeom prst="rect">
            <a:avLst/>
          </a:prstGeom>
          <a:gradFill rotWithShape="0">
            <a:gsLst>
              <a:gs pos="0">
                <a:srgbClr val="b0d27e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255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2160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44ca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bf44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5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04776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161E-6AC8-4564-BC5C-9C5638070D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905120"/>
            <a:ext cx="9009000" cy="1052280"/>
            <a:chOff x="0" y="19051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012760"/>
              <a:ext cx="711360" cy="474480"/>
              <a:chOff x="290520" y="20127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012760"/>
                <a:ext cx="437400" cy="474480"/>
              </a:xfrm>
              <a:prstGeom prst="rect">
                <a:avLst/>
              </a:prstGeom>
              <a:solidFill>
                <a:srgbClr val="fdf7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012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df7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435040"/>
              <a:ext cx="737640" cy="474480"/>
              <a:chOff x="414360" y="24350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435040"/>
                <a:ext cx="421560" cy="474480"/>
              </a:xfrm>
              <a:prstGeom prst="rect">
                <a:avLst/>
              </a:prstGeom>
              <a:solidFill>
                <a:srgbClr val="b44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435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44c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361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b0d27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905120"/>
              <a:ext cx="31680" cy="1052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726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94B3-2A90-48BC-9486-7A25F6183A18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44cad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ebf44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onstraint Satisfaction Problem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tion 1 –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7947-37BF-4ADF-A656-A8F5E18F5E2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Real-world CSP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men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who teaches wha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tabling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which class is offered when and wher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ation schedu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y schedu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ce that many real-world problems involve real-valued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7D5-9214-407B-B5E5-4FD17732E7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6501"/>
                </a:solidFill>
                <a:latin typeface="Tahoma"/>
              </a:rPr>
              <a:t>Standard search formulation (incremental)</a:t>
            </a:r>
            <a:endParaRPr b="0" lang="en-US" sz="28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's start with the straightforward approach, then fix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s are defined by the values assigned so f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Initial st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he empty assignment {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Successor fun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ssign a value to an unassigned variable that does not conflict with current assig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 if no legal ass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Goal 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he current assignment is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the same for all CS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solution appears at dep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se depth-first 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h is irrelevant, so can also use complete-state formu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= (n -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)d at depth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hence n!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·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ea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90C-BC87-4E44-AB61-F4AFB29579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search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assignments are </a:t>
            </a: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commutati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, i.e.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WA = red then NT = green ] same as [ NT = green then WA = red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need to consider assignments to a single variable at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= d and there are $d^n$ leav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th-first search for CSPs with single-variable assignments is called </a:t>
            </a: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backtrack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tracking search is the basic uninformed algorithm for CS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solv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queens f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F25-DAD7-4D73-B9E1-CA0FCE23BE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search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7188" t="21878" r="13282" b="29168"/>
          <a:stretch/>
        </p:blipFill>
        <p:spPr>
          <a:xfrm>
            <a:off x="609480" y="1371600"/>
            <a:ext cx="7848720" cy="414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E5F-6BE1-4AA7-B8CF-F25DF563DF4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A9A-1C01-426F-A44D-636CB49ADBF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2E2-363C-4FF1-8C13-3B21D621AB7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3BE-6F8F-4B53-9318-3625588C9E7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80AB-FE13-42E0-9589-2DC02DD31DE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6501"/>
                </a:solidFill>
                <a:latin typeface="Tahoma"/>
              </a:rPr>
              <a:t>Improving backtracking efficiency</a:t>
            </a:r>
            <a:endParaRPr b="0" lang="en-US" sz="40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eneral-purp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s can give huge gains in spe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variable should be assigned nex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hat order should its values be tri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we detect inevitable failure ear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00C-D080-410C-9BF6-4F2E310C81F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Most constrained variab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nstrained vari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the variable with the fewest legal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k.a. </a:t>
            </a:r>
            <a:r>
              <a:rPr b="0" lang="en-US" sz="3200" spc="-1" strike="noStrike">
                <a:solidFill>
                  <a:srgbClr val="b44cad"/>
                </a:solidFill>
                <a:latin typeface="Tahoma"/>
              </a:rPr>
              <a:t>minimum remaining values (MRV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eur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6105240" cy="9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EB3-7F2F-41AA-9C54-7184A42CBA8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aint Satisfaction Problems (CS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tracking search for CS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search for CS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664-10F4-4FC8-B74F-5094FB0187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Most constraining variab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-breaker among most constrained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nstraining vari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the variable with the most constraints on remaining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7620120" cy="12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DA5E-DC17-4870-B50B-B09C1124632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Least constraining valu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variable, choose the least constraining val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ne that rules out the fewest values in the remaining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ing these heuristics makes 1000 queens fea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086600" cy="16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9972-AF59-4631-8AD1-D28E5D5B314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04840" y="3048120"/>
            <a:ext cx="5134320" cy="140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8D0D-0D95-4CDB-B55B-35D05471CE0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04840" y="3048120"/>
            <a:ext cx="5134320" cy="169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67E-99CC-4E92-8D46-F7FBB25CD08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04840" y="3048120"/>
            <a:ext cx="513432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A23-B036-4C42-96A6-285A5B51C41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004840" y="3048120"/>
            <a:ext cx="5134320" cy="22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99E-1D81-4DF3-B131-4CAD36D0299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onstraint propagation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checking propagates information from assigned to unassigned variables, but doesn't provide early detection for all fail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 and SA cannot both be blu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traint propa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eatedly enforces constraints lo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13396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94F-5E60-496E-8421-8A7D9DA2DFD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04840" y="2895480"/>
            <a:ext cx="5134320" cy="17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A7DB-EFD1-4C70-81F0-8DD38E61759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004840" y="2895480"/>
            <a:ext cx="5134320" cy="1762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23880" y="28954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C28-99B8-4D0E-9F98-F26802B078D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ses a value, neighbor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eed to be reche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04840" y="2895480"/>
            <a:ext cx="5134320" cy="17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B16-1993-4152-934A-720651CD27F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6501"/>
                </a:solidFill>
                <a:latin typeface="Tahoma"/>
              </a:rPr>
              <a:t>Constraint satisfaction problems (CSPs)</a:t>
            </a:r>
            <a:endParaRPr b="0" lang="en-US" sz="32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search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"black box“ – any data structure that supports successor function, heuristic function, and goal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defined by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om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goal 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et of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nstrai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pecifying allowable combinations of values for subsets of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example of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ormal representation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useful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general-purpo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gorithms with more power than standard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07A-02CD-4737-804C-ADBAE90382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ses a value, neighbor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eed to be reche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 consistency detects failure earlier than forward che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un as a preprocessor or after each ass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04840" y="2895480"/>
            <a:ext cx="5134320" cy="17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7C9-08BB-481C-BB2A-7E1695F7EA7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6501"/>
                </a:solidFill>
                <a:latin typeface="Tahoma"/>
              </a:rPr>
              <a:t>Arc consistency algorithm AC-3</a:t>
            </a:r>
            <a:endParaRPr b="0" lang="en-US" sz="40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5559480"/>
            <a:ext cx="86500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complexity: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16405" t="21878" r="13282" b="22917"/>
          <a:stretch/>
        </p:blipFill>
        <p:spPr>
          <a:xfrm>
            <a:off x="1295280" y="1371600"/>
            <a:ext cx="685800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AB95-5550-46A4-9FD3-316811DE8E5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Local search for CSP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ll-climbing, simulated annealing typically work with "complete" states, i.e., all variables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pply to CS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states with unsatisfied constra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assig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 selection: randomly select any conflicted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selection b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in-conflic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uristi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value that violates the fewest constra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, hill-climb 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total number of violated constra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5CA-DC98-45E3-A1C2-8E9F3E48013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Example: 4-Queen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4 queens in 4 columns (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56 sta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ove queen in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Goal t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o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Evalu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number of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random initial state, can solv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queens in almost constant time for arbitra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high probability (e.g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0,000,0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3880" y="3124080"/>
            <a:ext cx="5791320" cy="17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24E-EB4E-48AC-95BD-833AD70622A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SPs are a special kind of 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 defined by values of a fixed set of var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 test defined by constraints on variabl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tracking = depth-first search with one variable assigned per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ordering and value selection heuristics help significa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ward checking prevents assignments that guarantee later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aint propagation (e.g., arc consistency) does additional work to constrain values and detect inconsisten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rative min-conflicts is usually effective in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A37-5DB2-45B6-8934-D91FA875CB3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Example: Map-Color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81440" cy="3124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4161960"/>
            <a:ext cx="865008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A, NT, Q, NSW, V, SA, 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Dom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{red,green,blue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Constrai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djacent regions must have different col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W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T, or (WA,NT) in {(red,green),(red,blue),(green,red), (green,blue),(blue,red),(blue,green)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F94-CFFA-437F-AF89-F6820EA4ED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81440" cy="3124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Example: Map-Color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4549320"/>
            <a:ext cx="865008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4cad"/>
                </a:solidFill>
                <a:latin typeface="Tahoma"/>
              </a:rPr>
              <a:t>Solu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signments, e.g., WA = red, NT = green,Q = red,NSW = green,V = red,SA = blue,T = gr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AD1-9CD8-429D-8099-A74B239534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onstraint graph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ary CSP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ach constraint relates two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straint graph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des are variables, arcs are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676680" cy="315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490E-739F-4B4B-8C84-F72F7A0A0E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Varieties of CSP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ite domai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riables, domain siz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O(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e ass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Boolean CSPs, incl.~Boolean satisfiability (NP-complet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inite domai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ers, string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job scheduling, variables are start/end days for each j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ed a constraint language, 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rtJo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+ 5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≤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rtJo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start/end times for Hubble Space Telescope observ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constraints solvable in polynomial time by linear programm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6DC-9DF0-4ED5-9A5F-DAC6459745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Varieties of constraint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4cad"/>
                </a:solidFill>
                <a:latin typeface="Tahoma"/>
              </a:rPr>
              <a:t>Un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a single variabl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S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r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4cad"/>
                </a:solidFill>
                <a:latin typeface="Tahoma"/>
              </a:rPr>
              <a:t>Bin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pairs of variabl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S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4cad"/>
                </a:solidFill>
                <a:latin typeface="Tahoma"/>
              </a:rPr>
              <a:t>Higher-ord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3 or more variabl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ryptarithmetic column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746-8CC0-432C-8DE1-2DE9353B75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Example: Cryptarithmetic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095880" cy="2214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3076200"/>
            <a:ext cx="857088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F T U W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O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Dom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0,1,2,3,4,5,6,7,8,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lldiff (F,T,U,W,R,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 + O = R + 10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·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+ W + W = U + 10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·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+ T + 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 + 10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·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0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E8B-C22B-4701-8270-3B9418F617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5:14:46Z</dcterms:created>
  <dc:creator>Min-Yen Kan</dc:creator>
  <dc:description/>
  <dc:language>en-US</dc:language>
  <cp:lastModifiedBy>Min-Yen Kan</cp:lastModifiedBy>
  <dcterms:modified xsi:type="dcterms:W3CDTF">2003-12-22T03:38:57Z</dcterms:modified>
  <cp:revision>5</cp:revision>
  <dc:subject/>
  <dc:title>Constraint Satisfaction Problems</dc:title>
</cp:coreProperties>
</file>