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0B1-DB35-4628-B883-78A76F96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5AB-69CB-4E5A-B3F8-61F1AA2D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30E-10A9-4E96-9B8A-6D36B473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2C2-6E2E-43D1-A57E-945FEA59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E93-B0EA-4F00-8D4F-C6D732F4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2C9-3DFD-4899-BD64-AC9F2147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FB5-A3A4-4532-9777-2BC1E471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714-1107-4E48-93B8-904CE436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5AE-39C4-49A2-B637-73D33A7A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0A7-2A7B-42D4-AFFA-F7F231BE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362-B8BA-4711-80B0-7D5FEEED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337-1BB1-48FE-AD83-DDBA2F2C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2119-84EE-4AE4-97C0-F412638DD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mp.nus.edu.sg/~cs3243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324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ATIONS OF ARTIFICIAL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Y2003/2004 Semes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: Chapt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nal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g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entity that perceives and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urse is about designing ration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ly, an agent is a function from percept histories to 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given class of environments and tasks, we seek the agent (or class of agents) with the bes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veat: computational limitations make perfect rationality unachie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be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iven machin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 pre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osop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, methods of reasoning, mind as physic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oundations of learning, langua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representation and proof algorithm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, (un)decidability, (in)tractabilit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, decision the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rosci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substrate for ment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lo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enomena of perception and motor contro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fast comput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systems that maximize an obje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over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gu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representation, 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idged history of 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3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Culloch &amp; Pitts: Boolean circuit model of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0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ing's "Computing Machinery and Intelligen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95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tmouth meeting: "Artificial Intelligence"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2—6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, Ma, no hand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0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AI programs, including Samuel's check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, Newell &amp; Simon's Logic Theoris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ernter's Geometry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inson's complete algorithm for logical 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6—7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 discovers computational complex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ral network research almost dis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9—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development of knowledge-bas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0-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 becomes an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6-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ral networks return to pop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7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 becomes a sc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ergence of intelligent ag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Blue defeated the reigning world chess champion Garry Kasparov in 199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d a mathematical conjecture (Robbins conjecture) unsolved for dec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ands across America (driving autonomously 98% of the time from Pittsburgh to San Dieg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1991 Gulf War, US forces deployed an AI logistics planning and scheduling program that involved up to 50,000 vehicles, cargo, and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's on-board autonomous planning program controlled the scheduling of operations for a spacecr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lves crossword puzzles better than most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32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 home pag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omp.nus.edu.sg/~cs324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LE for schedule, lecture notes, tutorials, assignment, grading, office hour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: S. Russell and P. Norvi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tificial Intelligence: A Modern Approa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ntice Hall, 2003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cond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r: Min-Yen Kan (S15 05-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: Class participation (10%), Programming assignment (15%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term test (20%), Final exam (55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participation includes participation in both lectures and tutorials (attendance, asking and answering questions, presenting solutions to tutorial question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attendance at every lecture and tutorial will be taken and constitutes part of the class participation g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term test (in class, 1 hr) and final exam (2 hrs) are both open-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of the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and Agents (chapters 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(chapters 3,4,5,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 (chapters 7,8,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chapters 11,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(chapters 13,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(chapters 18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anguage Processing (chapter 22,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s of AI fall into four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huma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ratio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ng huma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ng ratio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book advocates "acting rationally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2743200"/>
          <a:ext cx="7086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3733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ng humanly: Turing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ing (1950) "Computing machinery and intelligence"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Can machines think?"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Can machines behave intelligently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test for intelligent behavior: the Imitation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ed that by 2000, a machine might have a 30% chance of fooling a lay person for 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cipated all major arguments against AI in following 5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major components of AI: knowledge, reasoning, language understanding,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39481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humanly: cognitive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0s "cognitive revolution": information-processing psych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scientific theories of internal activities of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How to validate? Requi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Predicting and testing behavior of human subjects (top-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2) Direct identification from neurological data (bottom-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pproaches (roughly, Cognitive Science and Cognitive Neuroscien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ow distinct from 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: "laws of thought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stotle: what are correct arguments/thought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Greek schools developed various form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les of deri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oughts; may or may not have proceeded to the idea of mech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ine through mathematics and philosophy to modern 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intelligent behavior is mediated by logical delib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purpose of thinking? What thoughts should I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ng rationally: rational a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havior: doing the right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thing: that which is expected to maximize goal achievement, given the availabl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't necessarily involve thinking – e.g., blinking reflex – but  thinking should be in the service of rational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2:04:52Z</dcterms:created>
  <dc:creator>Min-Yen Kan</dc:creator>
  <dc:description/>
  <dc:language>en-US</dc:language>
  <cp:lastModifiedBy>Min-Yen Kan</cp:lastModifiedBy>
  <dcterms:modified xsi:type="dcterms:W3CDTF">2003-12-17T02:52:26Z</dcterms:modified>
  <cp:revision>4</cp:revision>
  <dc:subject/>
  <dc:title>Slide 1</dc:title>
</cp:coreProperties>
</file>