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53D-1ACC-47F9-9518-E0576320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6ED-A4CB-49CE-ABF0-183F9176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379-E8F2-4683-ABCF-D8F45948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6E3-FDE5-45CD-9292-6B084EF5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502-FCA7-4347-958E-B179C5F3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4D1-E7EC-4830-A283-46C6BCBD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511-8FCC-4C9F-8685-E0AD973F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AED-12BF-4C78-8FDE-614F0724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A76-1141-4FED-A905-7934213A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D6F-C86F-4CEC-8304-9F309A50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A7D-EF46-4F7F-A826-56B24B5D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B27-CA08-40BB-A526-B122B845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47E8-7D50-473F-B031-121D9F8C6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condi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ab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P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true) = 0.1 and P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unny) = 0.72 correspond to belief prior to arrival of any (new)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ability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s values for all possible assign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&lt;0.72,0.1,0.08,0.1&gt;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rmaliz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.e., sums to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oint probability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 set of random variables gives the probability of every atomic event on those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,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a 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matrix of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4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6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ry question about a domain can be answered by the join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4197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sterior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given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l I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ation for conditional distrib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2-element vector of 2-element v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know more, 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so given, then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| toothache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vidence may be irrelevant, allowing simplification, e.g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| toothache, sun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ind of inference, sanctioned by domain knowledge, is cru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conditional proba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 | b) = P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 / P(b) if  P(b)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duct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an alternative form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 = P(a | b) P(b) = P(b | a) P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ral version holds for whole distributions, e.g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ew as a set of 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equations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mul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ain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erived by successive application of product 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^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108 + 0.012 + 0.016 + 0.064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108 + 0.012 + 0.016 + 0.064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5812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compute conditional proba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0.016+0.0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8 + 0.012 + 0.016 + 0.0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4197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52578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809880" cy="1920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minator can be viewed a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| 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α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,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α,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,toothache,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,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[&lt;0.108,0.016&gt; + &lt;0.012,0.064&gt;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α, &lt;0.12,0.08&gt; = &lt;0.6,0.4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idea: compute distribution on query variable by fixing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vidence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umming ove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,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we are interest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sterior joint distribution of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specific val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idence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required summation of joint entries is done by summing out the hidden 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α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rms in the summation are joint entries beca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gether exhaust the set of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ious probl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-case time complex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largest 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 complex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store the joint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find the numbers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independent 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|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|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, B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, Cavity, 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entries reduced to 12;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ependent biased coin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independence powerful but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istry is a large field with hundreds of variables, none of which are independent. What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3434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and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 and Bayes'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, Cavity, C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= 7 independent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have a cavity, the probability that the probe catches in it doesn't depend on whether I have a tootha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independence holds if I haven't got a ca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ditionally 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ndependenc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ut full joint distribution using chai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, Catch, 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2 + 2 + 1 = 5 independen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most cases, the use of conditional independence reduces the size of the representation of the joint distribution from exponential 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linear 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itional independence is our most basic and robust form of knowledge about uncertain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'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rule P(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= P(a | b) P(b) = P(b | a) 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yes' ru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a | b) = P(b | a) P(a) / 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 distribution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|X)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|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 = 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|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assessing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gnos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from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u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Cause|Effect) = P(Effect|Cause) P(Cause) / P(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meningiti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stiff ne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|s) = P(s|m) P(m) / P(s) = 0.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01 / 0.1 = 0.0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posterior probability of meningitis still very smal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' Rule and conditional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 | toothach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example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ïve Ba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e,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e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Cau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umber of parameters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48481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is a rigorous formalism for uncertai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oint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probability of ever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tomic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can be answered by summing over atomic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ntrivial domains, we must find a way to reduce the joi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epend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ditional indepe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h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leave for airport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nutes before f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t me there on ti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 observability (road state, other drivers' plan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isy sensors (traffic repo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ertainty in action outcomes (flat tir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mense complexity of modeling and predic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 a purely logical approach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s falsehood: 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get me there on time”,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s to conclusions that are too weak for decision mak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get me there on time if there's no accident on the bridge and it doesn't rain and my tires remain intact etc et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4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ght reasonably be said to get me there on time but I'd have to stay overnight in the airport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for handling uncertai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monoto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my car does not have a flat 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s unless contradicted by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: What assumptions are reasonable? How to handle contradi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ules with fudge fa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there 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rinkler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t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tGrass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: Problems with combination, 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ink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agent's degree of 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available evid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get me there on time with probability 0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assertio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zi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ailure to enumerate exceptions, qualifica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gno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ck of relevant facts, initial condi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relate propositions to agent's own state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no reported accidents) = 0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ertions about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of propositions change with new evid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no reported accidents, 5 a.m.) = 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decisions under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believ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4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9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ction to cho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m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issing flight vs. time spent wait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tility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represent and infer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ision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robability theory + utility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elemen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ndom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ropositional logic: possible worlds defined by assignment of values to random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o I have a cavity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cr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ne of 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nny,rainy,cloudy,sn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values must be exhaustive and mutually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proposition constructed by assignment of a value 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propositions formed from elementary propositions and standard logical connectives 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 = sunn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0960" indent="-203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variable: e.g., Weather = sunny, Cavity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30960" indent="-203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breviated as c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omic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cation of the state of the world about which the agent is unc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f the world consists of only two Boolean variab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ere are 4 distinct atomic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fal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fal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tr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tr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events are mutually exclusive and exhau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proposi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 and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3781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4:23:21Z</dcterms:created>
  <dc:creator>Min-Yen Kan</dc:creator>
  <dc:description/>
  <dc:language>en-US</dc:language>
  <cp:lastModifiedBy>Min-Yen Kan</cp:lastModifiedBy>
  <dcterms:modified xsi:type="dcterms:W3CDTF">2003-12-18T05:29:09Z</dcterms:modified>
  <cp:revision>8</cp:revision>
  <dc:subject/>
  <dc:title>Uncertainty</dc:title>
</cp:coreProperties>
</file>